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778-6203-4BFF-89ED-D890DF08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044-65EF-4E77-87FA-FBA1E1F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996-E207-4602-93E4-BA5FCCA2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5CB-067A-4944-8B71-8F1CA07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7F0-4C89-4BB9-8CA4-78D50623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5DD-0B3B-4D45-B31C-F434E4E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062-A126-4801-BE4F-97A3BA4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3C2-5B8D-4BA7-871B-1459B52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B12-7B89-42D2-AF36-DD57CAD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987-17EE-4C7D-B8E4-66BD28A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B4E-A6CF-4271-87DF-0F43E7B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244-F685-4FA2-A769-D4965AC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158-4881-46B8-9AA8-942C2617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@lexiko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?action=AttachFile&amp;do=get&amp;target=Eligibility+Screening_FINAL_10-8-2007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other 3 services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R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ffers EMRwrapper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ou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8:04:05Z</dcterms:modified>
  <cp:revision>28</cp:revision>
  <dc:subject/>
  <dc:title>COI Architecture? </dc:title>
</cp:coreProperties>
</file>